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4C1-AA54-42BF-A4DA-75C5372A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18B-47A9-423E-9FD3-59C832E2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20CD-2DB7-4822-97BA-4734AB2F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FA0-66C2-4707-A3F0-52A32955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17DC-77B4-4402-B7C5-DE0A7F5D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BE78-CDF3-4FD6-9FC6-ADD05975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F469-EEDF-4B45-9CAC-B494C915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55F7-CEEC-4D45-982A-68A80A50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0312-36F3-4700-8D43-892D5FBC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9712-C1FA-473D-B43F-ECBB1B7C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CD49-6262-430D-89E5-C704AA72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1D3-B9EE-46A9-B7DB-DFD15BF1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5F88-D4D9-40BC-8615-D7C33BEB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A32F-AC73-4664-8DAC-D99124E3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3460-8B01-4116-ACB4-E2674AAA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B552-05E6-4A53-8020-C752F680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8CB4-08F3-4CAD-9038-465FAAB0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CE4-1174-453A-9D09-8FB42A89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A377-6024-4AEA-B697-0AB79071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E1C9-7798-4D07-8FF0-DE4ADD51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F26-BA6C-44B6-A077-707AFD5C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1C88-68CF-46B9-AA39-3CB02A69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F7DE-FD5E-44D9-8068-8E510D27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6F3C-B88C-4AB5-A32E-C4A51AFB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7FF3-CBF9-4C5E-B0D1-0A89986B04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19F8-0CB6-4225-BFD2-E50A2EAE0BC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533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F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a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m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o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u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s</a:t>
            </a:r>
            <a:br>
              <a:rPr sz="8000"/>
            </a:b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W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o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m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e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n P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h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a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r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a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o</a:t>
            </a:r>
            <a:r>
              <a:rPr b="1" lang="en-US" sz="8000" spc="-1" strike="noStrike">
                <a:solidFill>
                  <a:srgbClr val="ff9900"/>
                </a:solidFill>
                <a:latin typeface="Curlz MT"/>
              </a:rPr>
              <a:t>h</a:t>
            </a:r>
            <a:r>
              <a:rPr b="1" lang="en-US" sz="8000" spc="-1" strike="noStrike">
                <a:solidFill>
                  <a:srgbClr val="800000"/>
                </a:solidFill>
                <a:latin typeface="Curlz MT"/>
              </a:rPr>
              <a:t>s</a:t>
            </a:r>
            <a:endParaRPr b="0" lang="en-US" sz="8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47920" y="49528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Crook and Flail"/>
          <p:cNvPicPr/>
          <p:nvPr/>
        </p:nvPicPr>
        <p:blipFill>
          <a:blip r:embed="rId1"/>
          <a:stretch/>
        </p:blipFill>
        <p:spPr>
          <a:xfrm>
            <a:off x="838080" y="2514600"/>
            <a:ext cx="6400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W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o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m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e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n P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h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a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r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a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o</a:t>
            </a:r>
            <a:r>
              <a:rPr b="1" lang="en-US" sz="5400" spc="-1" strike="noStrike">
                <a:solidFill>
                  <a:srgbClr val="800000"/>
                </a:solidFill>
                <a:latin typeface="Cooper Black"/>
              </a:rPr>
              <a:t>h</a:t>
            </a:r>
            <a:r>
              <a:rPr b="1" lang="en-US" sz="5400" spc="-1" strike="noStrike">
                <a:solidFill>
                  <a:srgbClr val="ff9900"/>
                </a:solidFill>
                <a:latin typeface="Cooper Black"/>
              </a:rPr>
              <a:t>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SzPct val="10286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00"/>
                </a:solidFill>
                <a:latin typeface="Curlz MT"/>
              </a:rPr>
              <a:t>Hatshepsut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buSzPct val="10286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800000"/>
                </a:solidFill>
                <a:latin typeface="Curlz MT"/>
              </a:rPr>
              <a:t>Cleopatra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Hatshepsut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386480" cy="4497120"/>
          </a:xfrm>
          <a:prstGeom prst="rect">
            <a:avLst/>
          </a:prstGeom>
          <a:solidFill>
            <a:srgbClr val="c16059"/>
          </a:solidFill>
          <a:ln w="9360">
            <a:solidFill>
              <a:srgbClr val="2f131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atshepsut was an 18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dynasty pharaoh wh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as the daughter of Thutmose I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When Thutmose I died, his son, Thutmose I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ucceeded him and, as was the custom, h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married his stepsister, Hatshepsut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hen Thutmose II died, Hatshepsut  becam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hutmose III’s regent and eventually appoint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erself pharaoh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leopatr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eopatra was not of true Egyptian lineage. She was descended from Macedonian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he became pharaoh when she was 17 years old and ruled with her father, and then with her younger brother, Ptolemy XIII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he was called “Queen of the Nile”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eopatra commited suicide in 30 B.C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Pop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Quiz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800000"/>
                </a:solidFill>
                <a:latin typeface="Arial"/>
              </a:rPr>
              <a:t>Who was Hatshepsut?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How many</a:t>
            </a: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dynasties were there?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What were the gaps of time in between the kingdoms like?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Who did the pharaohs turn to when they needed advice?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9:15Z</dcterms:created>
  <dc:creator>Default</dc:creator>
  <dc:description/>
  <dc:language>en-US</dc:language>
  <cp:lastModifiedBy>Taylor O'Brien</cp:lastModifiedBy>
  <dcterms:modified xsi:type="dcterms:W3CDTF">2009-01-14T21:02:33Z</dcterms:modified>
  <cp:revision>9</cp:revision>
  <dc:subject/>
  <dc:title>Egyptian Pharaohs</dc:title>
</cp:coreProperties>
</file>